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39600"/>
            <a:ext cx="49532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 High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4724280" y="6137280"/>
            <a:ext cx="99072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5791320" y="6137280"/>
            <a:ext cx="99036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05440" y="6118200"/>
            <a:ext cx="110016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endshow"/>
          </p:cNvPr>
          <p:cNvSpPr/>
          <p:nvPr/>
        </p:nvSpPr>
        <p:spPr>
          <a:xfrm>
            <a:off x="8012160" y="6118200"/>
            <a:ext cx="807840" cy="336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65530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91280" y="6553080"/>
            <a:ext cx="150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4800600" y="617220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5867280" y="6172200"/>
            <a:ext cx="83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0760" y="617220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077320" y="617220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9600"/>
            <a:ext cx="49532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 High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52880" y="65530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91280" y="6553080"/>
            <a:ext cx="150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9600"/>
            <a:ext cx="49532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 High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65530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91280" y="6553080"/>
            <a:ext cx="150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9600"/>
            <a:ext cx="49532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 High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8520" y="714240"/>
            <a:ext cx="8346960" cy="522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74720" y="1297080"/>
            <a:ext cx="62244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143000"/>
            <a:ext cx="8229600" cy="1473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e 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, Philip, Frederick set out from Europe on Third Crus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erick was killed, Philip quarreled with Richard, returned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King Richard the Lion-Hearted of England fought in Holy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343400"/>
            <a:ext cx="8229600" cy="14731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erce F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, Saladin fought fiercely for control of Holy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won several battles, not able to drive Muslims out of Holy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could not take Jerusalem, had to return to 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743200"/>
            <a:ext cx="8229600" cy="14731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tual 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, Saladin admired each other as military leaders, gentle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proposals for peace, including marriage alliance of Richard’s sister, Saladin’s brother; never took place because of religious dif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Cru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14300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Crusade, 12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usalem still in Muslim h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aders could not pay Venetians to take them to Holy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ieu of payment, Crusaders agreed to attack Z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58128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in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aders pushe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ed Christian city of Constantin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sacked city, made one leader new empe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14300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ra once belonged to Venice, now held by Christian king of Hung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e angered that Christian city attacked, excommunicated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358128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organization, lack of leadership made Fourth Crusade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ther Crusades followed, none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and Later Crus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8083440" cy="394668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533520" y="1387440"/>
            <a:ext cx="36874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4235400" y="1387440"/>
            <a:ext cx="43434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8275680" y="442800"/>
            <a:ext cx="320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8624880" y="441360"/>
            <a:ext cx="320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57240" y="717480"/>
            <a:ext cx="5361120" cy="52340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8275680" y="442800"/>
            <a:ext cx="320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8624880" y="441360"/>
            <a:ext cx="320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8077320" y="6141960"/>
            <a:ext cx="79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811160" y="671400"/>
            <a:ext cx="5403960" cy="527688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8275680" y="442800"/>
            <a:ext cx="320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8624880" y="441360"/>
            <a:ext cx="320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047080" y="615636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957240"/>
            <a:ext cx="8229600" cy="19461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goal of the Crusa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30516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ake Jerusalem and the Holy Land away from the Muslims who controll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143000"/>
            <a:ext cx="8229600" cy="1981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onomi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 evidence of trade between Muslims, Byzantines, Europeans prior to Crus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sades enhanced existing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ing Crusaders brought more goods, spices, textiles, to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trade added to changing European economy during Middle 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200" y="3276720"/>
            <a:ext cx="4038120" cy="2666520"/>
            <a:chOff x="457200" y="3276720"/>
            <a:chExt cx="4038120" cy="2666520"/>
          </a:xfrm>
        </p:grpSpPr>
        <p:sp>
          <p:nvSpPr>
            <p:cNvPr id="244" name=""/>
            <p:cNvSpPr/>
            <p:nvPr/>
          </p:nvSpPr>
          <p:spPr>
            <a:xfrm>
              <a:off x="457200" y="3742920"/>
              <a:ext cx="4038120" cy="22003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usades led to deaths of many knights, no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ds left vulner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ambitious nobles took control of unoccupied la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bles then had more power, influence in Euro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" y="3276720"/>
              <a:ext cx="4038120" cy="4662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olitical Chan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648320" y="3276720"/>
            <a:ext cx="4038120" cy="2666520"/>
            <a:chOff x="4648320" y="3276720"/>
            <a:chExt cx="4038120" cy="2666520"/>
          </a:xfrm>
        </p:grpSpPr>
        <p:sp>
          <p:nvSpPr>
            <p:cNvPr id="247" name=""/>
            <p:cNvSpPr/>
            <p:nvPr/>
          </p:nvSpPr>
          <p:spPr>
            <a:xfrm>
              <a:off x="4648320" y="3742920"/>
              <a:ext cx="4038120" cy="2200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me Europeans respected other cultures, others intole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y viewed non-Christians as enemies, persecuted J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ly Land Jews saw Crusaders as cruel inva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ions strained for centu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48320" y="3276720"/>
              <a:ext cx="4038120" cy="4662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ocial Chan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the Crus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95560" y="1249200"/>
            <a:ext cx="3152880" cy="43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914400"/>
            <a:ext cx="8229600" cy="23623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people’s attitudes change after the Crusa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69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uropeans became more intolerant and saw Jews and Muslims as enemies; Jews and Muslims saw the Crusaders as ene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73716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oints Map: Europe,1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Main Idea / Reading Foc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Launching the Crus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Fighting the Crus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Map: The Crus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f the Crus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Quick Facts: Causes and Effects of the Crus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rus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4937040" y="2482920"/>
            <a:ext cx="600120" cy="1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17800" y="727200"/>
            <a:ext cx="5514840" cy="5172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7760" y="74124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to play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sten to Hist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2760" y="1279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11040" y="2054160"/>
            <a:ext cx="1766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icon below to connect to the Interactive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28560" y="2747880"/>
            <a:ext cx="600120" cy="1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27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id the Europeans launch the Crusad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happened during the Crusad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ere the effects of the Crusad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usades, a series of attempts to gain Christian control of the Holy Land, had a profound economic, political, and social impact on the societies involv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rus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192" name="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usalem in control of North African Muslims, Fatimids, late 1000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urkish Muslims took control of Persia, other lands, persecuted Christians visiting 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urks attacked Byzantine Empire, destroyed army, 10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eror turned to Western Europe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pe Urban 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for hel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Muslims Control Holy L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195" name="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uropean Christians launched series of religious wars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usad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in Middle 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oal to take Jerusalem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ly La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away from Musli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usalem site of Holy Temple of Jews, also where Jesus crucified, buried, was to come ag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tal to Christians to control 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Goal of Crusad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unching the Crus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uncil of Clerm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e Urban II called church leaders to council in Clermont, 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d dangers faced by Byzant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on Christian warriors to put aside differences, fight against Tu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all to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dreds of knights, nobles volunteered for Crus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ut to meet foes with slogan “God wills it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942840"/>
            <a:ext cx="8229600" cy="19605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vents led to the call for a Crus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30516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juk Turks conquered Holy Land, threatened Byzantines; Byzantine emperor called on pope for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aders left France in 1096 in First Crusade. In all, nine Crusades set out between 1096 and 1291 to claim or protect the Holy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206" name="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usaders in two groups, peasants and knigh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skilled peasants answered Pope’s c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4440" indent="-225360">
                <a:lnSpc>
                  <a:spcPct val="100000"/>
                </a:lnSpc>
                <a:spcAft>
                  <a:spcPts val="224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ger to fight non-Christians in Holy L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4440" indent="-225360">
                <a:lnSpc>
                  <a:spcPct val="100000"/>
                </a:lnSpc>
                <a:spcAft>
                  <a:spcPts val="224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 the way attacked and slaughtered German Jews despite protes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4440" indent="-225360">
                <a:lnSpc>
                  <a:spcPct val="100000"/>
                </a:lnSpc>
                <a:spcAft>
                  <a:spcPts val="224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l to Seljuk Turkish army at Jerusal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irst Crus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209" name="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2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tter trained in warfare than peasants, but unprepared for hardship of journ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veled three yea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ege of Jerusalem victory for Crusaders, disaster for 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named four states in Holy Land, intended to be strongholds against future Muslim conq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n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ghting the Crus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352680"/>
            <a:ext cx="8229600" cy="26510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Cru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eader arose in Muslim world, 1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h ad-Din, known to Europeans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a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threw Fatimids, took title of sul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ut to take back Crusader states, succeeded, drove European Christians out of Jerusa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914400"/>
            <a:ext cx="8229600" cy="23461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Cru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lims began retaking lands lost in First Crus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city of Edessa, capital of one Crusader state, 11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leaders called for Second Crusade, launched in 11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Crusade a failure, took no lands from Mus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ITPower</cp:lastModifiedBy>
  <cp:lastPrinted>2005-02-01T16:21:45Z</cp:lastPrinted>
  <dcterms:modified xsi:type="dcterms:W3CDTF">2007-01-11T19:59:20Z</dcterms:modified>
  <cp:revision>267</cp:revision>
  <dc:subject/>
  <dc:title>PowerPoint Presentation</dc:title>
</cp:coreProperties>
</file>